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E4A6CB-2781-4F4F-A4F5-ED763D94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D0D38E-325F-4971-90DA-A61B0091D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64C31F-94AE-4CAD-BE96-86D837C0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2FA1FE-16C7-48B6-9A5F-BF9CCD5A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EC85D0-3F89-41A4-8842-5F22941A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8FA437-FCEE-4208-8E00-7A30DCF5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FFEB72-76CF-4EDC-89E5-F9116EDB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CD6187-FF0D-4305-A76A-9A9A262D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7B9F0A-EB93-468C-A0D2-E485E2C03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C05-BA43-44F9-8FF8-56C70DEB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81F-EDEE-44CB-9138-302EB8B2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58B-C46E-4EFE-A734-E12D2067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BEC-75CB-464C-AE58-D5090EAD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656-1D1E-4818-A15F-38F9083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A85-80C3-4B8F-ACDE-A4F3DF7B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3BA-ECCE-4CF8-B646-2774561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B85-91DF-458A-AA62-848F8C9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C7D-B7A2-4A28-900E-9236F7FE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40F-CADE-4192-8D0A-3C30D8D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BF2-A05F-4C8B-8E4C-574FAB4E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D0C-3ABF-4CBC-BFBB-2E30161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842-1EFA-4322-848D-86FDF0C0BB1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the development of Recommendations and Guidelines on e-Navigation Portrayal (output/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d in WG1 output to IMO; Recommend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LA exceeding re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and Portrayal “on the b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LA Members / Sister Organiz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-Navigation succeed with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new participants, 1 ob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 Output papers includ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ft Guideline on Procedures for the Management of the IALA Domains under the IHO Registr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ANM, EEP, VTS on draft Product Specifications under S-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other papers dealing with the IHO S-100 GI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Liaison Notes to ITU-R WP5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IEC, IH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draft Information Papers to IM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– a vision and its practical implementation -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proposed shipboard architecture– Jan-Hendrik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U/W, Testbed portal – Thomas Christensen (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WA – Stephen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Participation in the IHO Registry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-100/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on e-NAV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(output/16) outlining the e-NAV Committee’s plan for its review of the IALA NAV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 on the proposed course content for a radionavigation module (e-NAV11/output/18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NAV58 INF paper (output/17) on Maritime Integrated P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PAP and other Committees on the Plan for AIS and VDE (output/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s to ITU-R WP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roposed changes to Recommendations ITU-R M.824-3 and ITU-R M.1176  (output/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 for Future VHF Data Communications (output/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iming of submissions of changes to ITU-R M1371-4 (output/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ALA Guideline on Procedures for the Management of the IALA Domains under the IHO Registry (output/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 (output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Applications to participate in the IHO Registry (output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Registry (output/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7031160" y="2743200"/>
          <a:ext cx="21128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1160" y="2743200"/>
                    <a:ext cx="2112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04-16T17:13:14Z</dcterms:modified>
  <cp:revision>114</cp:revision>
  <dc:subject/>
  <dc:title>PowerPoint Presentation</dc:title>
</cp:coreProperties>
</file>